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79E-BF8B-4455-AB9B-CB76DA33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AA1-672C-45F2-8FF3-BEEDB0F6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978-5FC3-4483-9F43-2E5271A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46B-E1D8-48D5-849C-CB674FB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8D8-D275-4A5A-9211-BE9123FE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961-45C7-46CD-8E20-7300F96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A937-2088-4877-88F7-EA4C2AA2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44A-7EA5-4948-862E-E3488AE1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C47A-4CC1-4067-814B-161D430D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E25F-2E6A-4071-8BA0-A37E2CF4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BC4-AF68-4710-8A2E-FBEEEEA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E2C-4F10-4C21-80AF-12BB3657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650-1946-49D9-A1FD-EF14F1A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FE23-758B-43CB-B177-8A9225D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8DE-E97D-4E43-B0F1-392326F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48AB-A8EC-4C27-B040-A175B576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1BA2-AA0C-44C1-B1DB-3882F8B2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7CC-A1E6-4854-86EE-2A0E7A9F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31E-9ECA-4F1D-BA7D-C5F643AD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0E3-10DC-46E6-BA74-8BD73159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9E8-A777-4F72-9DF4-AD3ECFD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38E-FF13-42C1-8949-987A819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A69-A6A4-4ECC-BB6E-A320C4B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420A-4F62-4065-855C-2CDC7D9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B4F-50F4-4838-A92F-724F302605FD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AC62-22EC-4C7A-BF9F-2830744E6E8F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Degenerativne bolesti zglobo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Doc. Dr Tanja Lukovi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atofiziologij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 prestanku opterećenj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skavica se oporavlja tako što voda iz sinovijalne tečnosti ponovo ulazi u rskavicu, i ona počinje da bubri, i ponovo dobija osobine hidr. jastuč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ugo, ponavljano ili preterano opterećenje elastičnost se gubi,nastaje fibrilacija-pojava fisura, pa erozija, pa nastanak ljusp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atofiziologij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irovanjem ljuspice se talože na dnu, što uslovljava inicijalni bol pri prvim pokretima (jutarnju ukočeno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igracija Le iz sinovije i ljuspanje izazivaju oslobadjanje lizozomalnih enzima,koji izazivaju reakciju sinov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U kosti eburnizacija, ivični osteofiti,cis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268360" y="98100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PATOGENEZ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699920" y="2349360"/>
            <a:ext cx="45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Biohemijski i metabolički proce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176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0508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484360" y="2852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Narušena  ravnotež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4427640" y="5410080"/>
            <a:ext cx="2895480" cy="1447920"/>
          </a:xfrm>
          <a:prstGeom prst="irregularSeal2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 flipH="1">
            <a:off x="3132000" y="3213000"/>
            <a:ext cx="60984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4140360" y="3141720"/>
            <a:ext cx="533160" cy="914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 rot="10800000">
            <a:off x="2124000" y="3715920"/>
            <a:ext cx="1447920" cy="685800"/>
          </a:xfrm>
          <a:prstGeom prst="pi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rot="10800000">
            <a:off x="4716000" y="3715920"/>
            <a:ext cx="1600200" cy="68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2124000" y="3716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Arial"/>
              </a:rPr>
              <a:t>sintetičk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572000" y="364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k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bolič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2124000" y="537372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L-1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G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E2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AutoShape 20"/>
          <p:cNvSpPr/>
          <p:nvPr/>
        </p:nvSpPr>
        <p:spPr>
          <a:xfrm>
            <a:off x="3276720" y="4869000"/>
            <a:ext cx="1873080" cy="549000"/>
          </a:xfrm>
          <a:custGeom>
            <a:avLst/>
            <a:gdLst>
              <a:gd name="textAreaLeft" fmla="*/ 356400 w 1873080"/>
              <a:gd name="textAreaRight" fmla="*/ 1213560 w 18730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7" hR="21600" stAng="10800000" swAng="5400000"/>
                <a:lnTo>
                  <a:pt x="9881" y="0"/>
                </a:lnTo>
                <a:arcTo wR="8227" hR="21600" stAng="-5400000" swAng="2827746"/>
                <a:lnTo>
                  <a:pt x="21130" y="14400"/>
                </a:lnTo>
                <a:lnTo>
                  <a:pt x="17280" y="21600"/>
                </a:lnTo>
                <a:lnTo>
                  <a:pt x="12490" y="14400"/>
                </a:lnTo>
                <a:lnTo>
                  <a:pt x="15983" y="14400"/>
                </a:lnTo>
                <a:arcTo wR="8227" hR="21600" stAng="-2572254" swAng="-2695520"/>
                <a:lnTo>
                  <a:pt x="9054" y="109"/>
                </a:lnTo>
                <a:arcTo wR="8227" hR="21600" stAng="-5532226" swAng="-5267774"/>
                <a:close/>
              </a:path>
              <a:path fill="darkenLess" w="21600" h="21600">
                <a:moveTo>
                  <a:pt x="0" y="21600"/>
                </a:moveTo>
                <a:arcTo wR="8227" hR="21600" stAng="10800000" swAng="5400000"/>
                <a:lnTo>
                  <a:pt x="8227" y="0"/>
                </a:lnTo>
                <a:arcTo wR="8227" hR="21600" stAng="-5400000" swAng="132226"/>
                <a:lnTo>
                  <a:pt x="9054" y="109"/>
                </a:lnTo>
                <a:arcTo wR="8227" hR="21600" stAng="-5532226" swAng="-5267774"/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2880360" y="58784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ndroc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72360" y="72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togenez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0" t="0" r="0" b="-915"/>
          <a:stretch/>
        </p:blipFill>
        <p:spPr>
          <a:xfrm>
            <a:off x="539640" y="1413000"/>
            <a:ext cx="4013280" cy="47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798720" cy="489564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16480" y="314640"/>
            <a:ext cx="78152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dijumi ra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z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ganja 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hrska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Zdrava hrskav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Povećana lomljivost kolagenih vlakana, smanjenje broja hondroc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Poremećen metabolizam hondroc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Picture 9" descr="Copy of Picture 001"/>
          <p:cNvPicPr/>
          <p:nvPr/>
        </p:nvPicPr>
        <p:blipFill>
          <a:blip r:embed="rId1"/>
          <a:stretch/>
        </p:blipFill>
        <p:spPr>
          <a:xfrm>
            <a:off x="3203640" y="170028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opy (2) of Picture 001"/>
          <p:cNvPicPr/>
          <p:nvPr/>
        </p:nvPicPr>
        <p:blipFill>
          <a:blip r:embed="rId2"/>
          <a:stretch/>
        </p:blipFill>
        <p:spPr>
          <a:xfrm>
            <a:off x="5580000" y="170028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icture 001"/>
          <p:cNvPicPr/>
          <p:nvPr/>
        </p:nvPicPr>
        <p:blipFill>
          <a:blip r:embed="rId3"/>
          <a:stretch/>
        </p:blipFill>
        <p:spPr>
          <a:xfrm>
            <a:off x="755640" y="1700280"/>
            <a:ext cx="2340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linička slika 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 u zglob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Jutarnja ukoče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Um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eformacija zgloba sa promenama mekih t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eaktivni sinovit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repi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alpatorna osetlji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484360" y="162000"/>
            <a:ext cx="4121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979640" y="0"/>
            <a:ext cx="54864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DIJAGNOZ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GONARTROZ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11280" y="1413000"/>
            <a:ext cx="45720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Klinička slika, objektivni nala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Laboratorijski nala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Radiografi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CT i UZ (ređ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EMNG  gornjih i donj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  ekstremiteta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Dopler krvnih sudova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2"/>
          <a:stretch/>
        </p:blipFill>
        <p:spPr>
          <a:xfrm>
            <a:off x="6300720" y="2565360"/>
            <a:ext cx="2438640" cy="208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466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1308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913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6666"/>
                </a:solidFill>
                <a:latin typeface="Arial"/>
              </a:rPr>
              <a:t>LEČENJE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GONARTROZ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brzim simptomatsk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nalgetic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NSAI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Antiartrotični lekovi sa simptomatskim sporim dejstvom (DMOAD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= 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SYSADO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Glukozam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Diacere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Hondroit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  S-Adenosil metion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Hijaluronska kiselina               Rumal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GK                                          Artep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strukturno-modulatorn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proinflamatornih citoki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enz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azot oks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Stimulacija anaboličkih procesa u hrskav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Reparacija površine hrskavice, celularna i th. citokin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803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Lokalizacija 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DIP (Heberdenovi čvorić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kol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ku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CMCP palca (Risarth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Artroza DIP zglobova (Heberden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diopatski, nasled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Žene,postmenopauzal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debljava baza distalne falange 1 ili više prstiju obe š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, crvenilo, trnjenje prstiju, nelagod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Artroza kolena (gonartroz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elika opterećenost po jedinici površine (noseći zglo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femorotibijalna i patelofemora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, vremenom sve jači i češć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trofija mišića, kontrak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tok (,,balotman patele; Kellgrenov zna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epi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Terapija gonartro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edikament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pšte mere: redukcija TT, dozirana aktivnost,promena radnog mesta ili prekvalifik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Fizikalna terapija: elektro, termo, kinezi, hidro, fototerapija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perativno: osteotomije, artoplast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ks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egenerativno oboljenje zgloba kuka različite etiologije, sa patološkim promenama na hrskavici i kosti, koje remeti anatomske odnose,smanjuje funkciju i dovodi do kontrak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isproporcija izmedju opterećenja i nosiv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Etiologija koksartro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P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paljenjski proce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arušena vaskularizacija ku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raume ku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ojaz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išićni disbalans i skraće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štani tum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linička slika koksartroz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 (opterećenje, promena vremena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 u preponi, u kolenu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Hramanje, fleksiona kontrak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graničena pokretljiv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seudoabrev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repita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Rhisartr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rtroza CMPC palca š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, otok, ukočenost,oslabljen stis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g: pregled i Rt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h: medikamentno oralno i lokal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Fizikalna terap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ineziterapija u fazi remis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Osteoartroza</a:t>
            </a:r>
            <a:r>
              <a:rPr b="1" lang="sr-Latn-C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je rasprostranjena i ozbiljna boles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42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Najčešći uzrok bolovanja i invalidskih pen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Počinje oko 30 god.Sa povećanjem životne dobi populacije raste broj obolel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Kod generacije 50-to godišnjaka 80% je obolel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U kategoriji od 65 do 74 godine 90% je oboleli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Pogađa i mla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sportiste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ljude koji rade teške fizičke poslov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ljude koji najviše radnog vremena provode 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sedećem položa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Organization Chart 4"/>
          <p:cNvGrpSpPr/>
          <p:nvPr/>
        </p:nvGrpSpPr>
        <p:grpSpPr>
          <a:xfrm>
            <a:off x="179280" y="971280"/>
            <a:ext cx="8762760" cy="3940200"/>
            <a:chOff x="179280" y="971280"/>
            <a:chExt cx="8762760" cy="3940200"/>
          </a:xfrm>
        </p:grpSpPr>
        <p:cxnSp>
          <p:nvCxnSpPr>
            <p:cNvPr id="101" name="_s1028"/>
            <p:cNvCxnSpPr>
              <a:stCxn id="102" idx="0"/>
              <a:endCxn id="103" idx="5"/>
            </p:cNvCxnSpPr>
            <p:nvPr/>
          </p:nvCxnSpPr>
          <p:spPr>
            <a:xfrm flipV="1" rot="16200000">
              <a:off x="6189120" y="685440"/>
              <a:ext cx="676440" cy="39333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4"/>
            </p:cNvCxnSpPr>
            <p:nvPr/>
          </p:nvCxnSpPr>
          <p:spPr>
            <a:xfrm flipV="1" rot="16200000">
              <a:off x="5517000" y="1357560"/>
              <a:ext cx="676440" cy="25894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3"/>
            </p:cNvCxnSpPr>
            <p:nvPr/>
          </p:nvCxnSpPr>
          <p:spPr>
            <a:xfrm flipV="1" rot="16200000">
              <a:off x="4728240" y="2146320"/>
              <a:ext cx="676440" cy="10119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8" name="_s1031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3951720" y="2380680"/>
              <a:ext cx="676440" cy="54324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10" name="_s1032"/>
            <p:cNvCxnSpPr>
              <a:stCxn id="111" idx="0"/>
              <a:endCxn id="103" idx="1"/>
            </p:cNvCxnSpPr>
            <p:nvPr/>
          </p:nvCxnSpPr>
          <p:spPr>
            <a:xfrm flipH="1" flipV="1" rot="5400000">
              <a:off x="3152880" y="1581840"/>
              <a:ext cx="676440" cy="21412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12" name="_s1033"/>
            <p:cNvCxnSpPr>
              <a:stCxn id="113" idx="0"/>
              <a:endCxn id="103" idx="0"/>
            </p:cNvCxnSpPr>
            <p:nvPr/>
          </p:nvCxnSpPr>
          <p:spPr>
            <a:xfrm flipH="1" flipV="1" rot="5400000">
              <a:off x="2373120" y="802440"/>
              <a:ext cx="676440" cy="369972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03" name="_s1034"/>
            <p:cNvSpPr/>
            <p:nvPr/>
          </p:nvSpPr>
          <p:spPr>
            <a:xfrm>
              <a:off x="3638880" y="971280"/>
              <a:ext cx="1843560" cy="1343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66"/>
                  </a:solidFill>
                  <a:latin typeface="Arial"/>
                </a:rPr>
                <a:t>REUMATI</a:t>
              </a: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ČNE 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BOLESTI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_s1035"/>
            <p:cNvSpPr/>
            <p:nvPr/>
          </p:nvSpPr>
          <p:spPr>
            <a:xfrm>
              <a:off x="179280" y="2990520"/>
              <a:ext cx="13629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Zapalje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_s1036"/>
            <p:cNvSpPr/>
            <p:nvPr/>
          </p:nvSpPr>
          <p:spPr>
            <a:xfrm>
              <a:off x="1692000" y="2990520"/>
              <a:ext cx="1457640" cy="1856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ff0000"/>
                  </a:solidFill>
                  <a:latin typeface="Arial"/>
                </a:rPr>
                <a:t>Degenerativn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7"/>
            <p:cNvSpPr/>
            <p:nvPr/>
          </p:nvSpPr>
          <p:spPr>
            <a:xfrm>
              <a:off x="3299400" y="2990520"/>
              <a:ext cx="14385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Vanzglobn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>
              <a:off x="4888080" y="2990520"/>
              <a:ext cx="1365840" cy="1827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Metabo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ič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039"/>
            <p:cNvSpPr/>
            <p:nvPr/>
          </p:nvSpPr>
          <p:spPr>
            <a:xfrm>
              <a:off x="6404040" y="2990520"/>
              <a:ext cx="1490400" cy="19209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U toku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bolest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drugih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1040"/>
            <p:cNvSpPr/>
            <p:nvPr/>
          </p:nvSpPr>
          <p:spPr>
            <a:xfrm>
              <a:off x="8044560" y="2990520"/>
              <a:ext cx="897480" cy="1351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Ređ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poremećaj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okomot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99280" y="405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DEFINICIJA 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50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39640" y="2565360"/>
            <a:ext cx="81536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Artroze su degenerativna oboljenja zglobova koja počinju na zglobnoj hrskavici, zahvataju jedan ili više zglobova ekstremiteta i kičme i ne utiču na opšte stanje organiz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odel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imarn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enuino uslovljena; normalan nadražaj na nenormalnu hrskavic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ekundarn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uzroci su u spoljašnjim faktorima;hrskavica je normalna, a nadražaj nenormalan (Astapenk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96320" y="590040"/>
            <a:ext cx="7842600" cy="5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Uzroci osteoartroz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836280"/>
            <a:ext cx="769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enetsk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ispozic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remećaji metaboliz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eterano opterećen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globni lomo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ikrotra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Upale zglobo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grešna postavljenost zglobova (RPK, varus ili valgus kole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ekomerna tež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terećenje zglobova (prinudni položaj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taren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olesti bub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shr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atofiziologij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globna hrskavica je aneuralna; hondrociti se ne dele, ali su metabolički aktiv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atriks čine proteoglikan (mukopolisaharidi) i hijaluronska kise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ubrenje proteoglikana omogućava da hrskavica pruži otpor kompresiji i deformacij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red opterećenja, deluju i sile sabijanja na zglob, koje mogu biti veće i od efikasne si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TOFIZIOLOGIJ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3770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Funkcija</a:t>
            </a:r>
            <a:r>
              <a:rPr b="1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hijaline hrskavice</a:t>
            </a:r>
            <a:r>
              <a:rPr b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(avasku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aneural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alimfatič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insuficijencija hondroci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reaktivna hiperplazi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subhondralnih osteoblasta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metaplazija sinovijalnog tkiva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Ciklusi kompresije i dekompres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770280" cy="46609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2871720" y="31701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476360" y="96984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1042920" y="907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042920" y="7650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87280" y="2602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1" i="1" lang="sr-Latn-CS" sz="4400" spc="-1" strike="noStrike">
                <a:solidFill>
                  <a:srgbClr val="003366"/>
                </a:solidFill>
                <a:latin typeface="Arial"/>
              </a:rPr>
              <a:t>atofiziologijaosteoartroz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1-05-23T06:48:21Z</dcterms:modified>
  <cp:revision>138</cp:revision>
  <dc:subject/>
  <dc:title>PowerPoint Presentation</dc:title>
</cp:coreProperties>
</file>